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61A53A-0C0E-44E9-87A5-F6EE1B6A525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7AAADA-1E4E-4BB6-8BC3-43FA23346BAC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A1DD09-8C92-464E-9050-80B9092BFADB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F3AD29-E41C-45CD-A75F-F007BC3B0027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1F1B8C-F4F3-4DD3-A0DD-208E21A1270C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FBBDCB8-D9A5-48CA-B257-08B05ED6442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0A77EB-C32C-41F4-AB12-1A130B68B435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E4C156-3BCC-4A23-9D0B-6399AEE825BA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AB31-C643-44E0-A093-3846E9BB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521E-FE77-480A-AA36-34B434C0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E2FB-EAE9-4226-BCCE-3ADCBAA0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C9C-FB8C-47A0-9751-D972E080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6CFE-84D3-4833-AD3D-A1661743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58E2-A39E-4D42-955B-3A3FCBE3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7463-FB4B-4E58-98BE-919348EC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9776-78E7-4A4F-A295-DA2E3774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F01A-C7DA-4713-956F-A2A16CE0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8142-0659-43A1-9DFE-F37F046B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41C9-4476-4BF3-848F-EC7D9D31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D637-03D2-468F-A5FE-EFCBA684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B0E3-AF7D-4858-AED1-3B1468A7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E158-477D-4F10-8743-E7CD11CD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23AB-34DE-45DF-9AC2-F0D18D62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5561-AF80-4294-A536-CAE53C26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3296-BE51-47B7-9CAF-398A950D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BA3-855B-40EC-8BD6-EF2DF49D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BF6-E85F-4199-AEE3-7F6EB5B8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58C-D0A8-45A9-946C-63A91859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96F-170B-4637-A1C6-E03C6AA3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BE0-4E2E-41EC-B678-89262E95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5AA-3B91-4A29-9975-5B92D4B5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0B0-07FB-4607-8B90-C8CA8D49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F09C-81C3-414C-A766-5777627FA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62B6-9B15-4688-A936-1F6AC868CF4B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posting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Rank/Selec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1206360" y="3149640"/>
            <a:ext cx="61930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187280" y="31640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00101001010101011111110000011010101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25840" y="3102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93560" y="4356000"/>
            <a:ext cx="8064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Rank</a:t>
            </a:r>
            <a:r>
              <a:rPr b="0" lang="it-IT" sz="2400" spc="-1" strike="noStrike" baseline="-25000">
                <a:solidFill>
                  <a:srgbClr val="990033"/>
                </a:solidFill>
                <a:latin typeface="Lucida Sans"/>
              </a:rPr>
              <a:t>b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(i)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umber of b in B[1,i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200000"/>
              </a:lnSpc>
              <a:buClr>
                <a:srgbClr val="990033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Select</a:t>
            </a:r>
            <a:r>
              <a:rPr b="0" lang="it-IT" sz="2400" spc="-1" strike="noStrike" baseline="-25000">
                <a:solidFill>
                  <a:srgbClr val="990033"/>
                </a:solidFill>
                <a:latin typeface="Lucida Sans"/>
              </a:rPr>
              <a:t>b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(i)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osition of the i-th b in 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Line 8"/>
          <p:cNvSpPr/>
          <p:nvPr/>
        </p:nvSpPr>
        <p:spPr>
          <a:xfrm flipH="1" flipV="1">
            <a:off x="2168280" y="3517920"/>
            <a:ext cx="142920" cy="504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2313000" y="3840480"/>
            <a:ext cx="1754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Rank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(6)  =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Line 10"/>
          <p:cNvSpPr/>
          <p:nvPr/>
        </p:nvSpPr>
        <p:spPr>
          <a:xfrm>
            <a:off x="2484360" y="2874960"/>
            <a:ext cx="0" cy="3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411280" y="2550600"/>
            <a:ext cx="22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(3)  = 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7" name="Group 12"/>
          <p:cNvGrpSpPr/>
          <p:nvPr/>
        </p:nvGrpSpPr>
        <p:grpSpPr>
          <a:xfrm>
            <a:off x="7195680" y="4029120"/>
            <a:ext cx="1650960" cy="934560"/>
            <a:chOff x="7195680" y="4029120"/>
            <a:chExt cx="1650960" cy="934560"/>
          </a:xfrm>
        </p:grpSpPr>
        <p:sp>
          <p:nvSpPr>
            <p:cNvPr id="208" name="Text Box 13"/>
            <p:cNvSpPr/>
            <p:nvPr/>
          </p:nvSpPr>
          <p:spPr>
            <a:xfrm>
              <a:off x="7195680" y="4029120"/>
              <a:ext cx="133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Lucida Sans"/>
                </a:rPr>
                <a:t>m = |B|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Lucida Sans"/>
                </a:rPr>
                <a:t>n  = #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AutoShape 14"/>
            <p:cNvSpPr/>
            <p:nvPr/>
          </p:nvSpPr>
          <p:spPr>
            <a:xfrm>
              <a:off x="7236000" y="4029120"/>
              <a:ext cx="1610640" cy="9345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0" name="AutoShape 37"/>
          <p:cNvSpPr/>
          <p:nvPr/>
        </p:nvSpPr>
        <p:spPr>
          <a:xfrm>
            <a:off x="79200" y="5500800"/>
            <a:ext cx="8893440" cy="13287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Two approaches: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60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Takes |B| + o(|B|) bits of space,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60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ims at achieving n log(m/n) bits, by deplyoing Elias-Fano + point (1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Rettangolo 1"/>
          <p:cNvSpPr/>
          <p:nvPr/>
        </p:nvSpPr>
        <p:spPr>
          <a:xfrm>
            <a:off x="530280" y="170172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sh to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index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bit vector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ossibly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compresse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83808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99"/>
                </a:solidFill>
                <a:latin typeface="Lucida Sans"/>
              </a:rPr>
              <a:t>The Bit-Vector Index: |B| + o(|B|)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7853400" y="44280"/>
            <a:ext cx="1248120" cy="703800"/>
            <a:chOff x="7853400" y="44280"/>
            <a:chExt cx="1248120" cy="703800"/>
          </a:xfrm>
        </p:grpSpPr>
        <p:sp>
          <p:nvSpPr>
            <p:cNvPr id="214" name="Text Box 4"/>
            <p:cNvSpPr/>
            <p:nvPr/>
          </p:nvSpPr>
          <p:spPr>
            <a:xfrm>
              <a:off x="7909920" y="44280"/>
              <a:ext cx="114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m = |B|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n  = #1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7853400" y="44280"/>
              <a:ext cx="1248120" cy="647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6" name="Text Box 6"/>
          <p:cNvSpPr/>
          <p:nvPr/>
        </p:nvSpPr>
        <p:spPr>
          <a:xfrm>
            <a:off x="611280" y="1773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Goal.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 is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read-only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 and the additional index takes o(m) bit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900000" y="2406600"/>
            <a:ext cx="79930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826920" y="242100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00101001010101011 1111100010110101 0101010111000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405360" y="23828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971640" y="2924280"/>
            <a:ext cx="2641680" cy="58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3710160" y="2884320"/>
            <a:ext cx="2504880" cy="10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6407280" y="2874960"/>
            <a:ext cx="2232000" cy="7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1926720" y="292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3339360" y="2924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5813280" y="29178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Line 16"/>
          <p:cNvSpPr/>
          <p:nvPr/>
        </p:nvSpPr>
        <p:spPr>
          <a:xfrm flipV="1">
            <a:off x="2631960" y="3212640"/>
            <a:ext cx="79236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488880" y="3500280"/>
            <a:ext cx="2110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absolute) Ran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544680" y="4703760"/>
            <a:ext cx="83484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Setting Z = poly(log m) and z=(1/2) log m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xtra space is + (m/Z) log m + (m/z) log Z + o(m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062720" indent="-212400">
              <a:lnSpc>
                <a:spcPct val="120000"/>
              </a:lnSpc>
              <a:spcBef>
                <a:spcPts val="476"/>
              </a:spcBef>
              <a:buClr>
                <a:srgbClr val="cc3300"/>
              </a:buClr>
              <a:buSzPct val="5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990033"/>
                </a:solidFill>
                <a:latin typeface="Tahoma"/>
              </a:rPr>
              <a:t>+ O(m loglog m / log m)  = o(m) bits</a:t>
            </a:r>
            <a:endParaRPr b="0" lang="en-US" sz="19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ank time is O(1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erm o(m) is crucial in practice, B is untouched (not compresse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7236000" y="3429000"/>
            <a:ext cx="1584000" cy="20160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7265880" y="3419640"/>
          <a:ext cx="1584360" cy="2016000"/>
        </p:xfrm>
        <a:graphic>
          <a:graphicData uri="http://schemas.openxmlformats.org/drawingml/2006/table">
            <a:tbl>
              <a:tblPr/>
              <a:tblGrid>
                <a:gridCol w="649440"/>
                <a:gridCol w="406440"/>
                <a:gridCol w="52848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1" name="Group 42"/>
          <p:cNvGrpSpPr/>
          <p:nvPr/>
        </p:nvGrpSpPr>
        <p:grpSpPr>
          <a:xfrm>
            <a:off x="7121160" y="3119400"/>
            <a:ext cx="1501200" cy="307080"/>
            <a:chOff x="7121160" y="3119400"/>
            <a:chExt cx="1501200" cy="307080"/>
          </a:xfrm>
        </p:grpSpPr>
        <p:sp>
          <p:nvSpPr>
            <p:cNvPr id="232" name="Text Box 43"/>
            <p:cNvSpPr/>
            <p:nvPr/>
          </p:nvSpPr>
          <p:spPr>
            <a:xfrm>
              <a:off x="7121160" y="3119400"/>
              <a:ext cx="6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90033"/>
                  </a:solidFill>
                  <a:latin typeface="Lucida Sans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3" name="Text Box 44"/>
            <p:cNvSpPr/>
            <p:nvPr/>
          </p:nvSpPr>
          <p:spPr>
            <a:xfrm>
              <a:off x="7701120" y="3119400"/>
              <a:ext cx="48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90033"/>
                  </a:solidFill>
                  <a:latin typeface="Lucida Sans"/>
                </a:rPr>
                <a:t>po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4" name="Text Box 45"/>
            <p:cNvSpPr/>
            <p:nvPr/>
          </p:nvSpPr>
          <p:spPr>
            <a:xfrm>
              <a:off x="8223840" y="31194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90033"/>
                  </a:solidFill>
                  <a:latin typeface="Lucida Sans"/>
                </a:rPr>
                <a:t>#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35" name="Group 50"/>
          <p:cNvGrpSpPr/>
          <p:nvPr/>
        </p:nvGrpSpPr>
        <p:grpSpPr>
          <a:xfrm>
            <a:off x="2887200" y="3432240"/>
            <a:ext cx="3260880" cy="1576440"/>
            <a:chOff x="2887200" y="3432240"/>
            <a:chExt cx="3260880" cy="1576440"/>
          </a:xfrm>
        </p:grpSpPr>
        <p:sp>
          <p:nvSpPr>
            <p:cNvPr id="236" name="Text Box 51"/>
            <p:cNvSpPr/>
            <p:nvPr/>
          </p:nvSpPr>
          <p:spPr>
            <a:xfrm>
              <a:off x="4003200" y="371952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99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37" name="Group 52"/>
            <p:cNvGrpSpPr/>
            <p:nvPr/>
          </p:nvGrpSpPr>
          <p:grpSpPr>
            <a:xfrm>
              <a:off x="2887200" y="3432240"/>
              <a:ext cx="3260880" cy="1576440"/>
              <a:chOff x="2887200" y="3432240"/>
              <a:chExt cx="3260880" cy="1576440"/>
            </a:xfrm>
          </p:grpSpPr>
          <p:sp>
            <p:nvSpPr>
              <p:cNvPr id="238" name="Rectangle 53"/>
              <p:cNvSpPr/>
              <p:nvPr/>
            </p:nvSpPr>
            <p:spPr>
              <a:xfrm>
                <a:off x="3698640" y="3700800"/>
                <a:ext cx="647280" cy="8244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9" name="Rectangle 54"/>
              <p:cNvSpPr/>
              <p:nvPr/>
            </p:nvSpPr>
            <p:spPr>
              <a:xfrm>
                <a:off x="4424400" y="3700800"/>
                <a:ext cx="512280" cy="91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0" name="Rectangle 55"/>
              <p:cNvSpPr/>
              <p:nvPr/>
            </p:nvSpPr>
            <p:spPr>
              <a:xfrm>
                <a:off x="4960800" y="3699000"/>
                <a:ext cx="593280" cy="7308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1" name="Rectangle 56"/>
              <p:cNvSpPr/>
              <p:nvPr/>
            </p:nvSpPr>
            <p:spPr>
              <a:xfrm>
                <a:off x="5643360" y="3700800"/>
                <a:ext cx="504720" cy="71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2" name="Line 57"/>
              <p:cNvSpPr/>
              <p:nvPr/>
            </p:nvSpPr>
            <p:spPr>
              <a:xfrm flipH="1" flipV="1">
                <a:off x="4345920" y="3840480"/>
                <a:ext cx="21564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3" name="Text Box 58"/>
              <p:cNvSpPr/>
              <p:nvPr/>
            </p:nvSpPr>
            <p:spPr>
              <a:xfrm>
                <a:off x="2887200" y="4221360"/>
                <a:ext cx="28522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(bucket-relative) Rank</a:t>
                </a:r>
                <a:r>
                  <a:rPr b="0" lang="it-IT" sz="2000" spc="-1" strike="noStrike" baseline="-25000">
                    <a:solidFill>
                      <a:srgbClr val="000000"/>
                    </a:solidFill>
                    <a:latin typeface="Lucida San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4" name="Text Box 59"/>
              <p:cNvSpPr/>
              <p:nvPr/>
            </p:nvSpPr>
            <p:spPr>
              <a:xfrm>
                <a:off x="4362840" y="3432240"/>
                <a:ext cx="1550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5c37fb"/>
                    </a:solidFill>
                    <a:latin typeface="Lucida Sans"/>
                  </a:rPr>
                  <a:t>4         5          8         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245" name="Rectangle 60"/>
          <p:cNvSpPr/>
          <p:nvPr/>
        </p:nvSpPr>
        <p:spPr>
          <a:xfrm>
            <a:off x="5003640" y="2276640"/>
            <a:ext cx="640080" cy="576000"/>
          </a:xfrm>
          <a:prstGeom prst="rect">
            <a:avLst/>
          </a:prstGeom>
          <a:solidFill>
            <a:srgbClr val="00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6" name="Rectangle 61"/>
          <p:cNvSpPr/>
          <p:nvPr/>
        </p:nvSpPr>
        <p:spPr>
          <a:xfrm>
            <a:off x="7164360" y="4365720"/>
            <a:ext cx="1800360" cy="576000"/>
          </a:xfrm>
          <a:prstGeom prst="rect">
            <a:avLst/>
          </a:prstGeom>
          <a:solidFill>
            <a:srgbClr val="00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7" name="Group 62"/>
          <p:cNvGrpSpPr/>
          <p:nvPr/>
        </p:nvGrpSpPr>
        <p:grpSpPr>
          <a:xfrm>
            <a:off x="5075280" y="2060640"/>
            <a:ext cx="853200" cy="430200"/>
            <a:chOff x="5075280" y="2060640"/>
            <a:chExt cx="853200" cy="430200"/>
          </a:xfrm>
        </p:grpSpPr>
        <p:sp>
          <p:nvSpPr>
            <p:cNvPr id="248" name="AutoShape 63"/>
            <p:cNvSpPr/>
            <p:nvPr/>
          </p:nvSpPr>
          <p:spPr>
            <a:xfrm>
              <a:off x="5075280" y="2131920"/>
              <a:ext cx="360360" cy="358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5293440" y="206064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cc3300"/>
                  </a:solidFill>
                  <a:latin typeface="Lucida Sans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0" name="Line 16"/>
          <p:cNvSpPr/>
          <p:nvPr/>
        </p:nvSpPr>
        <p:spPr>
          <a:xfrm flipV="1">
            <a:off x="2651040" y="3107880"/>
            <a:ext cx="3144960" cy="47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AutoShape 15"/>
          <p:cNvSpPr/>
          <p:nvPr/>
        </p:nvSpPr>
        <p:spPr>
          <a:xfrm>
            <a:off x="4140360" y="5373720"/>
            <a:ext cx="5003640" cy="148428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here exists a Bit-Vector Index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aking o(m)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extra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d constant time for Rank/Selec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B is needed and read-only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99"/>
                </a:solidFill>
                <a:latin typeface="Lucida Sans"/>
              </a:rPr>
              <a:t>The Select operation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7740720" y="189000"/>
            <a:ext cx="1222560" cy="703800"/>
            <a:chOff x="7740720" y="189000"/>
            <a:chExt cx="1222560" cy="703800"/>
          </a:xfrm>
        </p:grpSpPr>
        <p:sp>
          <p:nvSpPr>
            <p:cNvPr id="254" name="Text Box 5"/>
            <p:cNvSpPr/>
            <p:nvPr/>
          </p:nvSpPr>
          <p:spPr>
            <a:xfrm>
              <a:off x="7784280" y="189000"/>
              <a:ext cx="114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m = |B|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n  = #1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5" name="AutoShape 6"/>
            <p:cNvSpPr/>
            <p:nvPr/>
          </p:nvSpPr>
          <p:spPr>
            <a:xfrm>
              <a:off x="7740720" y="189000"/>
              <a:ext cx="1222560" cy="647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6" name="Rectangle 7"/>
          <p:cNvSpPr/>
          <p:nvPr/>
        </p:nvSpPr>
        <p:spPr>
          <a:xfrm>
            <a:off x="917640" y="1685880"/>
            <a:ext cx="7758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00000" y="1693800"/>
            <a:ext cx="88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0010100101010101111111000001101010101010111001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537120" y="1638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971640" y="2203560"/>
            <a:ext cx="2736720" cy="68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3833640" y="2212920"/>
            <a:ext cx="2106720" cy="46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1074600" y="2395440"/>
            <a:ext cx="56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Comic Sans MS"/>
              </a:rPr>
              <a:t>size r is variable until the subarray includes k = (log m)</a:t>
            </a:r>
            <a:r>
              <a:rPr b="0" lang="it-IT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99"/>
                </a:solidFill>
                <a:latin typeface="Comic Sans MS"/>
              </a:rPr>
              <a:t> 1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395280" y="2995560"/>
            <a:ext cx="8137440" cy="360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Tahoma"/>
              </a:rPr>
              <a:t>Sparse case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f r &gt; 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= (log m)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, we store explicitly the position of the k = (log m)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1s, because we have at most (m/r) blocks of this type, each taking (m/r) * k * log m bits = O(m / log m) = o(m) bit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Tahoma"/>
              </a:rPr>
              <a:t>Dense case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k ≤ r ≤ 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recurse by repeating the argument with now k’ = (log log m)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.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f r’ including k’ 1s &gt; log m bits, then store the k’ positions explicitly using O(log log m) bits each, thus O(m/log log m) = o(m) bits in total. Otherwise r’ &lt; log m, and thus a precomputed table is enough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Extra space is </a:t>
            </a:r>
            <a:r>
              <a:rPr b="0" lang="it-IT" sz="2200" spc="-1" strike="noStrike">
                <a:solidFill>
                  <a:srgbClr val="990033"/>
                </a:solidFill>
                <a:latin typeface="Tahoma"/>
              </a:rPr>
              <a:t>+ o(m)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, and B is not touched!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lect time is O(1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AutoShape 15"/>
          <p:cNvSpPr/>
          <p:nvPr/>
        </p:nvSpPr>
        <p:spPr>
          <a:xfrm>
            <a:off x="4140360" y="5445000"/>
            <a:ext cx="5003640" cy="141300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here exists a Bit-Vector Index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aking o(m)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extra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d constant time for Rank/Selec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B is needed and read-only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6012000" y="2205000"/>
            <a:ext cx="2305080" cy="54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429840" y="494028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z = 3, w=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99"/>
                </a:solidFill>
                <a:latin typeface="Lucida Sans"/>
              </a:rPr>
              <a:t>Via Elias-Fano </a:t>
            </a:r>
            <a:r>
              <a:rPr b="0" lang="it-IT" sz="3600" spc="-1" strike="noStrike">
                <a:solidFill>
                  <a:srgbClr val="000099"/>
                </a:solidFill>
                <a:latin typeface="Lucida Sans"/>
              </a:rPr>
              <a:t>(B is not needed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2449440" y="2979720"/>
            <a:ext cx="6100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Recall that by setting w = log (m/n) and z = log n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where m = |B| and n = #1 the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20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Space = n log (m/n) bits + 2n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8" name="Picture 11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5737320" cy="863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"/>
          <p:cNvPicPr/>
          <p:nvPr/>
        </p:nvPicPr>
        <p:blipFill>
          <a:blip r:embed="rId2"/>
          <a:stretch/>
        </p:blipFill>
        <p:spPr>
          <a:xfrm>
            <a:off x="108000" y="2673360"/>
            <a:ext cx="1430280" cy="2232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4" descr=""/>
          <p:cNvPicPr/>
          <p:nvPr/>
        </p:nvPicPr>
        <p:blipFill>
          <a:blip r:embed="rId3"/>
          <a:stretch/>
        </p:blipFill>
        <p:spPr>
          <a:xfrm>
            <a:off x="2521080" y="4572000"/>
            <a:ext cx="2950920" cy="37296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16"/>
          <p:cNvGrpSpPr/>
          <p:nvPr/>
        </p:nvGrpSpPr>
        <p:grpSpPr>
          <a:xfrm>
            <a:off x="2484360" y="4984920"/>
            <a:ext cx="3024360" cy="576000"/>
            <a:chOff x="2484360" y="4984920"/>
            <a:chExt cx="3024360" cy="576000"/>
          </a:xfrm>
        </p:grpSpPr>
        <p:sp>
          <p:nvSpPr>
            <p:cNvPr id="272" name="Text Box 17"/>
            <p:cNvSpPr/>
            <p:nvPr/>
          </p:nvSpPr>
          <p:spPr>
            <a:xfrm>
              <a:off x="3240360" y="4984920"/>
              <a:ext cx="21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0      1     2  3   4   5     6       7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273" name="Picture 19" descr=""/>
            <p:cNvPicPr/>
            <p:nvPr/>
          </p:nvPicPr>
          <p:blipFill>
            <a:blip r:embed="rId4"/>
            <a:stretch/>
          </p:blipFill>
          <p:spPr>
            <a:xfrm>
              <a:off x="2484360" y="5200560"/>
              <a:ext cx="3024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Line 21"/>
            <p:cNvSpPr/>
            <p:nvPr/>
          </p:nvSpPr>
          <p:spPr>
            <a:xfrm>
              <a:off x="3421080" y="5056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Line 22"/>
            <p:cNvSpPr/>
            <p:nvPr/>
          </p:nvSpPr>
          <p:spPr>
            <a:xfrm>
              <a:off x="3852720" y="5056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6" name="Line 23"/>
            <p:cNvSpPr/>
            <p:nvPr/>
          </p:nvSpPr>
          <p:spPr>
            <a:xfrm>
              <a:off x="4030560" y="5056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7" name="Line 24"/>
            <p:cNvSpPr/>
            <p:nvPr/>
          </p:nvSpPr>
          <p:spPr>
            <a:xfrm>
              <a:off x="4213080" y="5056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8" name="Line 25"/>
            <p:cNvSpPr/>
            <p:nvPr/>
          </p:nvSpPr>
          <p:spPr>
            <a:xfrm>
              <a:off x="4500720" y="5056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Line 26"/>
            <p:cNvSpPr/>
            <p:nvPr/>
          </p:nvSpPr>
          <p:spPr>
            <a:xfrm>
              <a:off x="4678560" y="5056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Line 27"/>
            <p:cNvSpPr/>
            <p:nvPr/>
          </p:nvSpPr>
          <p:spPr>
            <a:xfrm>
              <a:off x="5160960" y="5056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81" name="Text Box 9"/>
          <p:cNvSpPr/>
          <p:nvPr/>
        </p:nvSpPr>
        <p:spPr>
          <a:xfrm>
            <a:off x="1619280" y="6380280"/>
            <a:ext cx="7526160" cy="4406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an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i) on B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eeds binary search over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547640" y="5908680"/>
            <a:ext cx="7561440" cy="4406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i) on B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uses L and (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H,i) – i) in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+o(n)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CasellaDiTesto 4"/>
          <p:cNvSpPr/>
          <p:nvPr/>
        </p:nvSpPr>
        <p:spPr>
          <a:xfrm>
            <a:off x="5863320" y="4303800"/>
            <a:ext cx="27896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Build Selec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on 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o we need extra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|H| + o(|H|)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= 2n + o(n) bits 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Freccia giù 3"/>
          <p:cNvSpPr/>
          <p:nvPr/>
        </p:nvSpPr>
        <p:spPr>
          <a:xfrm rot="3957600">
            <a:off x="1541880" y="1911960"/>
            <a:ext cx="668160" cy="86364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Freccia giù 24"/>
          <p:cNvSpPr/>
          <p:nvPr/>
        </p:nvSpPr>
        <p:spPr>
          <a:xfrm rot="18644400">
            <a:off x="1717560" y="4454280"/>
            <a:ext cx="669960" cy="863640"/>
          </a:xfrm>
          <a:prstGeom prst="downArrow">
            <a:avLst>
              <a:gd name="adj1" fmla="val 50000"/>
              <a:gd name="adj2" fmla="val 4991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If you wish to play with Rank and Selec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46880" cy="576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2"/>
          <a:srcRect l="0" t="17637" r="0" b="0"/>
          <a:stretch/>
        </p:blipFill>
        <p:spPr>
          <a:xfrm>
            <a:off x="468360" y="2565360"/>
            <a:ext cx="4516560" cy="1008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6764400" cy="328464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51"/>
          <p:cNvSpPr/>
          <p:nvPr/>
        </p:nvSpPr>
        <p:spPr>
          <a:xfrm>
            <a:off x="4140360" y="3429000"/>
            <a:ext cx="5003640" cy="21607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/10 + n log (m/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ank in 0.4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c, Select in &lt; 1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Comic Sans MS"/>
                <a:ea typeface="ＭＳ Ｐゴシック"/>
              </a:rPr>
              <a:t>v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 32n bits of explicit pointer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ap en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381880" cy="35319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CasellaDiTesto 1"/>
          <p:cNvSpPr/>
          <p:nvPr/>
        </p:nvSpPr>
        <p:spPr>
          <a:xfrm>
            <a:off x="3340800" y="167652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1   1    2     7   20  14 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50920" y="5805360"/>
            <a:ext cx="84247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n you compress the resulting integers w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riable-length prefix-free codes, as follows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Variable-byt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sh to get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very fa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de)compr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byte-al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a binary representation of an integ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0s to front, to get a multiple-of-7 number of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m groups of 7-bits ea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to the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group the bit 0, and to the other groups the bit 1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(tagging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v=2</a:t>
            </a:r>
            <a:r>
              <a:rPr b="0" lang="en-US" sz="2400" spc="-1" strike="noStrike" baseline="30000">
                <a:solidFill>
                  <a:srgbClr val="00a000"/>
                </a:solidFill>
                <a:latin typeface="Lucida Sans"/>
              </a:rPr>
              <a:t>14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+1 </a:t>
            </a:r>
            <a:r>
              <a:rPr b="0" lang="en-US" sz="2400" spc="-1" strike="noStrike">
                <a:solidFill>
                  <a:srgbClr val="00a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a000"/>
                </a:solidFill>
                <a:latin typeface="Lucida Sans"/>
              </a:rPr>
              <a:t>binary(v)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= 10000000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99"/>
                </a:solidFill>
                <a:latin typeface="Lucida Sans"/>
              </a:rPr>
              <a:t>0000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0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We waste 1 bit per byte, and avg 4 for the first byt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ut it is a prefix code, and encodes also the value 0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cc0000"/>
                </a:solidFill>
                <a:uFillTx/>
                <a:latin typeface="Comic Sans MS"/>
              </a:rPr>
              <a:t>T-nibble</a:t>
            </a:r>
            <a:r>
              <a:rPr b="0" lang="it-IT" sz="2000" spc="-1" strike="noStrike">
                <a:solidFill>
                  <a:srgbClr val="cc0000"/>
                </a:solidFill>
                <a:latin typeface="Comic Sans MS"/>
              </a:rPr>
              <a:t>: We could design this code over t-bits, not just t=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ForDelta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800" y="3481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1" name="Group 42"/>
          <p:cNvGrpSpPr/>
          <p:nvPr/>
        </p:nvGrpSpPr>
        <p:grpSpPr>
          <a:xfrm>
            <a:off x="434520" y="1814400"/>
            <a:ext cx="8610120" cy="2896920"/>
            <a:chOff x="434520" y="1814400"/>
            <a:chExt cx="8610120" cy="2896920"/>
          </a:xfrm>
        </p:grpSpPr>
        <p:sp>
          <p:nvSpPr>
            <p:cNvPr id="102" name="AutoShape 22"/>
            <p:cNvSpPr/>
            <p:nvPr/>
          </p:nvSpPr>
          <p:spPr>
            <a:xfrm rot="16200000">
              <a:off x="3624120" y="615240"/>
              <a:ext cx="609480" cy="685836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78560 h 6858360"/>
                <a:gd name="textAreaBottom" fmla="*/ 6679800 h 685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8"/>
                  </a:lnTo>
                  <a:cubicBezTo>
                    <a:pt x="10800" y="9878"/>
                    <a:pt x="5400" y="10778"/>
                    <a:pt x="0" y="10778"/>
                  </a:cubicBezTo>
                  <a:cubicBezTo>
                    <a:pt x="5400" y="10778"/>
                    <a:pt x="10800" y="11678"/>
                    <a:pt x="10800" y="1257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3" name="Rectangle 23"/>
            <p:cNvSpPr/>
            <p:nvPr/>
          </p:nvSpPr>
          <p:spPr>
            <a:xfrm>
              <a:off x="156672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" name="Rectangle 24"/>
            <p:cNvSpPr/>
            <p:nvPr/>
          </p:nvSpPr>
          <p:spPr>
            <a:xfrm>
              <a:off x="21002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>
              <a:off x="2633400" y="3206520"/>
              <a:ext cx="53316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Rectangle 26"/>
            <p:cNvSpPr/>
            <p:nvPr/>
          </p:nvSpPr>
          <p:spPr>
            <a:xfrm>
              <a:off x="423396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" name="Rectangle 27"/>
            <p:cNvSpPr/>
            <p:nvPr/>
          </p:nvSpPr>
          <p:spPr>
            <a:xfrm>
              <a:off x="316692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37004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Rectangle 29"/>
            <p:cNvSpPr/>
            <p:nvPr/>
          </p:nvSpPr>
          <p:spPr>
            <a:xfrm>
              <a:off x="476712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" name="Rectangle 30"/>
            <p:cNvSpPr/>
            <p:nvPr/>
          </p:nvSpPr>
          <p:spPr>
            <a:xfrm>
              <a:off x="53006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5834160" y="320652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>
              <a:off x="636768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>
              <a:off x="7434360" y="320652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Rectangle 34"/>
            <p:cNvSpPr/>
            <p:nvPr/>
          </p:nvSpPr>
          <p:spPr>
            <a:xfrm>
              <a:off x="7967880" y="320652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Rectangle 35"/>
            <p:cNvSpPr/>
            <p:nvPr/>
          </p:nvSpPr>
          <p:spPr>
            <a:xfrm>
              <a:off x="49968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Rectangle 36"/>
            <p:cNvSpPr/>
            <p:nvPr/>
          </p:nvSpPr>
          <p:spPr>
            <a:xfrm>
              <a:off x="1033200" y="320652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Rectangle 37"/>
            <p:cNvSpPr/>
            <p:nvPr/>
          </p:nvSpPr>
          <p:spPr>
            <a:xfrm>
              <a:off x="6900840" y="320652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Rectangle 70"/>
            <p:cNvSpPr/>
            <p:nvPr/>
          </p:nvSpPr>
          <p:spPr>
            <a:xfrm>
              <a:off x="156672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Rectangle 71"/>
            <p:cNvSpPr/>
            <p:nvPr/>
          </p:nvSpPr>
          <p:spPr>
            <a:xfrm>
              <a:off x="21002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Rectangle 72"/>
            <p:cNvSpPr/>
            <p:nvPr/>
          </p:nvSpPr>
          <p:spPr>
            <a:xfrm>
              <a:off x="2633400" y="2597040"/>
              <a:ext cx="53316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Rectangle 73"/>
            <p:cNvSpPr/>
            <p:nvPr/>
          </p:nvSpPr>
          <p:spPr>
            <a:xfrm>
              <a:off x="423396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Rectangle 74"/>
            <p:cNvSpPr/>
            <p:nvPr/>
          </p:nvSpPr>
          <p:spPr>
            <a:xfrm>
              <a:off x="316692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" name="Rectangle 75"/>
            <p:cNvSpPr/>
            <p:nvPr/>
          </p:nvSpPr>
          <p:spPr>
            <a:xfrm>
              <a:off x="37004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Rectangle 76"/>
            <p:cNvSpPr/>
            <p:nvPr/>
          </p:nvSpPr>
          <p:spPr>
            <a:xfrm>
              <a:off x="476712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Rectangle 77"/>
            <p:cNvSpPr/>
            <p:nvPr/>
          </p:nvSpPr>
          <p:spPr>
            <a:xfrm>
              <a:off x="53006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Rectangle 78"/>
            <p:cNvSpPr/>
            <p:nvPr/>
          </p:nvSpPr>
          <p:spPr>
            <a:xfrm>
              <a:off x="5834160" y="2597040"/>
              <a:ext cx="533160" cy="457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79"/>
            <p:cNvSpPr/>
            <p:nvPr/>
          </p:nvSpPr>
          <p:spPr>
            <a:xfrm>
              <a:off x="636768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82"/>
            <p:cNvSpPr/>
            <p:nvPr/>
          </p:nvSpPr>
          <p:spPr>
            <a:xfrm>
              <a:off x="49968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83"/>
            <p:cNvSpPr/>
            <p:nvPr/>
          </p:nvSpPr>
          <p:spPr>
            <a:xfrm>
              <a:off x="1033200" y="2597040"/>
              <a:ext cx="53316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84"/>
            <p:cNvSpPr/>
            <p:nvPr/>
          </p:nvSpPr>
          <p:spPr>
            <a:xfrm>
              <a:off x="6900840" y="2597040"/>
              <a:ext cx="5331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Text Box 18"/>
            <p:cNvSpPr/>
            <p:nvPr/>
          </p:nvSpPr>
          <p:spPr>
            <a:xfrm>
              <a:off x="1043280" y="4349880"/>
              <a:ext cx="50954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Lucida Sans"/>
                  <a:ea typeface="SimSun"/>
                </a:rPr>
                <a:t>a block of 128 numbers = 256 bits = 32 byt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Line 86"/>
            <p:cNvSpPr/>
            <p:nvPr/>
          </p:nvSpPr>
          <p:spPr>
            <a:xfrm flipH="1">
              <a:off x="1109520" y="343512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Line 92"/>
            <p:cNvSpPr/>
            <p:nvPr/>
          </p:nvSpPr>
          <p:spPr>
            <a:xfrm flipH="1">
              <a:off x="5910480" y="343512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Line 97"/>
            <p:cNvSpPr/>
            <p:nvPr/>
          </p:nvSpPr>
          <p:spPr>
            <a:xfrm>
              <a:off x="7429680" y="223344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ttangolo 36"/>
            <p:cNvSpPr/>
            <p:nvPr/>
          </p:nvSpPr>
          <p:spPr>
            <a:xfrm>
              <a:off x="434520" y="1814400"/>
              <a:ext cx="86101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Use b (e.g. 2) bits to encode 128 numbers (32 bytes) or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Lucida Sans"/>
                </a:rPr>
                <a:t>exceptio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6" name="Rettangolo 38"/>
          <p:cNvSpPr/>
          <p:nvPr/>
        </p:nvSpPr>
        <p:spPr>
          <a:xfrm>
            <a:off x="123480" y="5300640"/>
            <a:ext cx="4912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ncode exceptions with value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2</a:t>
            </a:r>
            <a:r>
              <a:rPr b="1" lang="it-IT" sz="2000" spc="-1" strike="noStrike" baseline="30000">
                <a:solidFill>
                  <a:srgbClr val="ff0000"/>
                </a:solidFill>
                <a:latin typeface="Lucida Sans"/>
              </a:rPr>
              <a:t>b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ttangolo 39"/>
          <p:cNvSpPr/>
          <p:nvPr/>
        </p:nvSpPr>
        <p:spPr>
          <a:xfrm>
            <a:off x="136080" y="5872320"/>
            <a:ext cx="6208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hoose b to encode 90% values, or trade-off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waste more bits, 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more excep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ttangolo 37"/>
          <p:cNvSpPr/>
          <p:nvPr/>
        </p:nvSpPr>
        <p:spPr>
          <a:xfrm>
            <a:off x="199080" y="4871880"/>
            <a:ext cx="63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ranslate data: [base, base +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-2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[0,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- 2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9" name="Picture 11" descr=""/>
          <p:cNvPicPr/>
          <p:nvPr/>
        </p:nvPicPr>
        <p:blipFill>
          <a:blip r:embed="rId1"/>
          <a:stretch/>
        </p:blipFill>
        <p:spPr>
          <a:xfrm>
            <a:off x="6215040" y="4214880"/>
            <a:ext cx="29289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0629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&gt; 0 and Binary length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9 represented as 000</a:t>
            </a:r>
            <a:r>
              <a:rPr b="0" lang="en-US" sz="2800" spc="-1" strike="noStrike">
                <a:solidFill>
                  <a:srgbClr val="00a000"/>
                </a:solidFill>
                <a:latin typeface="Lucida Sans"/>
              </a:rPr>
              <a:t>1001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code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f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 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1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(ie. factor of 2 from optimal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5"/>
          <p:cNvSpPr/>
          <p:nvPr/>
        </p:nvSpPr>
        <p:spPr>
          <a:xfrm>
            <a:off x="2577960" y="2565360"/>
            <a:ext cx="31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Binary Length-1    Binary length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67640" y="5805360"/>
            <a:ext cx="68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ptimal for Pr(x) = 1/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nd i.i.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t is a prefix-free encoding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he following sequence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ded integers, reconstruct the original sequen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0001000001100110000011101100111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Line 4"/>
          <p:cNvSpPr/>
          <p:nvPr/>
        </p:nvSpPr>
        <p:spPr>
          <a:xfrm flipV="1">
            <a:off x="249084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Line 5"/>
          <p:cNvSpPr/>
          <p:nvPr/>
        </p:nvSpPr>
        <p:spPr>
          <a:xfrm flipV="1">
            <a:off x="363384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Line 6"/>
          <p:cNvSpPr/>
          <p:nvPr/>
        </p:nvSpPr>
        <p:spPr>
          <a:xfrm flipV="1">
            <a:off x="442908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702000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390320" y="484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903400" y="491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4008240" y="491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5439600" y="4843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7230600" y="484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150560" y="407664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z = 3, w=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99"/>
                </a:solidFill>
                <a:latin typeface="Lucida Sans"/>
              </a:rPr>
              <a:t>Elias-Fan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268360" y="2781360"/>
            <a:ext cx="673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f w = log (m/n) and z = log n, where m = |B| and n = #1 the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L  takes  n w = n log (m/n)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H takes n 1s + n 0s = 2n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0" name="Picture 11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5736960" cy="86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1430280" cy="223200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13"/>
          <p:cNvGrpSpPr/>
          <p:nvPr/>
        </p:nvGrpSpPr>
        <p:grpSpPr>
          <a:xfrm>
            <a:off x="1835280" y="4365720"/>
            <a:ext cx="3598200" cy="517320"/>
            <a:chOff x="1835280" y="4365720"/>
            <a:chExt cx="3598200" cy="517320"/>
          </a:xfrm>
        </p:grpSpPr>
        <p:pic>
          <p:nvPicPr>
            <p:cNvPr id="163" name="Picture 14" descr=""/>
            <p:cNvPicPr/>
            <p:nvPr/>
          </p:nvPicPr>
          <p:blipFill>
            <a:blip r:embed="rId3"/>
            <a:stretch/>
          </p:blipFill>
          <p:spPr>
            <a:xfrm>
              <a:off x="2482560" y="4510080"/>
              <a:ext cx="295092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AutoShape 15"/>
            <p:cNvSpPr/>
            <p:nvPr/>
          </p:nvSpPr>
          <p:spPr>
            <a:xfrm rot="5400000">
              <a:off x="1907280" y="4293360"/>
              <a:ext cx="431640" cy="576000"/>
            </a:xfrm>
            <a:custGeom>
              <a:avLst/>
              <a:gdLst>
                <a:gd name="textAreaLeft" fmla="*/ 0 w 431640"/>
                <a:gd name="textAreaRight" fmla="*/ 369720 w 431640"/>
                <a:gd name="textAreaTop" fmla="*/ 46656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756" y="0"/>
                  </a:moveTo>
                  <a:lnTo>
                    <a:pt x="11911" y="7200"/>
                  </a:lnTo>
                  <a:lnTo>
                    <a:pt x="14997" y="7200"/>
                  </a:lnTo>
                  <a:lnTo>
                    <a:pt x="14997" y="17497"/>
                  </a:lnTo>
                  <a:lnTo>
                    <a:pt x="0" y="17497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675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65" name="Group 16"/>
          <p:cNvGrpSpPr/>
          <p:nvPr/>
        </p:nvGrpSpPr>
        <p:grpSpPr>
          <a:xfrm>
            <a:off x="1547640" y="5157720"/>
            <a:ext cx="3024360" cy="576000"/>
            <a:chOff x="1547640" y="5157720"/>
            <a:chExt cx="3024360" cy="576000"/>
          </a:xfrm>
        </p:grpSpPr>
        <p:sp>
          <p:nvSpPr>
            <p:cNvPr id="166" name="Text Box 17"/>
            <p:cNvSpPr/>
            <p:nvPr/>
          </p:nvSpPr>
          <p:spPr>
            <a:xfrm>
              <a:off x="2303640" y="5157720"/>
              <a:ext cx="21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0      1     2  3   4   5     6       7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67" name="Picture 19" descr=""/>
            <p:cNvPicPr/>
            <p:nvPr/>
          </p:nvPicPr>
          <p:blipFill>
            <a:blip r:embed="rId4"/>
            <a:stretch/>
          </p:blipFill>
          <p:spPr>
            <a:xfrm>
              <a:off x="1547640" y="5373360"/>
              <a:ext cx="3024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Line 21"/>
            <p:cNvSpPr/>
            <p:nvPr/>
          </p:nvSpPr>
          <p:spPr>
            <a:xfrm>
              <a:off x="2484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9" name="Line 22"/>
            <p:cNvSpPr/>
            <p:nvPr/>
          </p:nvSpPr>
          <p:spPr>
            <a:xfrm>
              <a:off x="2916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0" name="Line 23"/>
            <p:cNvSpPr/>
            <p:nvPr/>
          </p:nvSpPr>
          <p:spPr>
            <a:xfrm>
              <a:off x="3093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1" name="Line 24"/>
            <p:cNvSpPr/>
            <p:nvPr/>
          </p:nvSpPr>
          <p:spPr>
            <a:xfrm>
              <a:off x="3276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2" name="Line 25"/>
            <p:cNvSpPr/>
            <p:nvPr/>
          </p:nvSpPr>
          <p:spPr>
            <a:xfrm>
              <a:off x="3564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3" name="Line 26"/>
            <p:cNvSpPr/>
            <p:nvPr/>
          </p:nvSpPr>
          <p:spPr>
            <a:xfrm>
              <a:off x="3741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>
              <a:off x="42242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75" name="Text Box 32"/>
          <p:cNvSpPr/>
          <p:nvPr/>
        </p:nvSpPr>
        <p:spPr>
          <a:xfrm>
            <a:off x="112320" y="534024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Lucida Sans"/>
              </a:rPr>
              <a:t>In una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CasellaDiTesto 4"/>
          <p:cNvSpPr/>
          <p:nvPr/>
        </p:nvSpPr>
        <p:spPr>
          <a:xfrm>
            <a:off x="5121000" y="5229360"/>
            <a:ext cx="234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elect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on H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444600" y="6129360"/>
            <a:ext cx="7867440" cy="7455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ow to get the i-th number ?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ake the i-th group of w bits in L and then represent the value (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H,i) – i) in z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k and Select 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data structur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A basic problem !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81" name="Group 20"/>
          <p:cNvGrpSpPr/>
          <p:nvPr/>
        </p:nvGrpSpPr>
        <p:grpSpPr>
          <a:xfrm>
            <a:off x="326160" y="1916280"/>
            <a:ext cx="7807680" cy="478800"/>
            <a:chOff x="326160" y="1916280"/>
            <a:chExt cx="7807680" cy="478800"/>
          </a:xfrm>
        </p:grpSpPr>
        <p:sp>
          <p:nvSpPr>
            <p:cNvPr id="182" name="Rectangle 21"/>
            <p:cNvSpPr/>
            <p:nvPr/>
          </p:nvSpPr>
          <p:spPr>
            <a:xfrm>
              <a:off x="774720" y="1963800"/>
              <a:ext cx="7359120" cy="43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83" name="Group 22"/>
            <p:cNvGrpSpPr/>
            <p:nvPr/>
          </p:nvGrpSpPr>
          <p:grpSpPr>
            <a:xfrm>
              <a:off x="326160" y="1916280"/>
              <a:ext cx="4485960" cy="459720"/>
              <a:chOff x="326160" y="1916280"/>
              <a:chExt cx="4485960" cy="459720"/>
            </a:xfrm>
          </p:grpSpPr>
          <p:sp>
            <p:nvSpPr>
              <p:cNvPr id="184" name="Text Box 23"/>
              <p:cNvSpPr/>
              <p:nvPr/>
            </p:nvSpPr>
            <p:spPr>
              <a:xfrm>
                <a:off x="894600" y="1976400"/>
                <a:ext cx="3917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baco, Battle, Car, Cold, Cod 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5" name="Text Box 24"/>
              <p:cNvSpPr/>
              <p:nvPr/>
            </p:nvSpPr>
            <p:spPr>
              <a:xfrm>
                <a:off x="326160" y="191628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86" name="Group 20"/>
          <p:cNvGrpSpPr/>
          <p:nvPr/>
        </p:nvGrpSpPr>
        <p:grpSpPr>
          <a:xfrm>
            <a:off x="511200" y="4721400"/>
            <a:ext cx="7828920" cy="459720"/>
            <a:chOff x="511200" y="4721400"/>
            <a:chExt cx="7828920" cy="459720"/>
          </a:xfrm>
        </p:grpSpPr>
        <p:sp>
          <p:nvSpPr>
            <p:cNvPr id="187" name="Rectangle 21"/>
            <p:cNvSpPr/>
            <p:nvPr/>
          </p:nvSpPr>
          <p:spPr>
            <a:xfrm>
              <a:off x="980640" y="4726080"/>
              <a:ext cx="7359480" cy="43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88" name="Group 22"/>
            <p:cNvGrpSpPr/>
            <p:nvPr/>
          </p:nvGrpSpPr>
          <p:grpSpPr>
            <a:xfrm>
              <a:off x="511200" y="4721400"/>
              <a:ext cx="4828320" cy="459720"/>
              <a:chOff x="511200" y="4721400"/>
              <a:chExt cx="4828320" cy="459720"/>
            </a:xfrm>
          </p:grpSpPr>
          <p:sp>
            <p:nvSpPr>
              <p:cNvPr id="189" name="Text Box 23"/>
              <p:cNvSpPr/>
              <p:nvPr/>
            </p:nvSpPr>
            <p:spPr>
              <a:xfrm>
                <a:off x="1222200" y="4738680"/>
                <a:ext cx="411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00  100000  100  1000  100 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0" name="Text Box 24"/>
              <p:cNvSpPr/>
              <p:nvPr/>
            </p:nvSpPr>
            <p:spPr>
              <a:xfrm>
                <a:off x="511200" y="472140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91" name="Text Box 50"/>
          <p:cNvSpPr/>
          <p:nvPr/>
        </p:nvSpPr>
        <p:spPr>
          <a:xfrm>
            <a:off x="250920" y="2611440"/>
            <a:ext cx="8569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Array of n string pointers to strings of total length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000000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(n log m) bits = 32 n bit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000000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it depends on the number of string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000000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it is independent of string length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2" name="Group 20"/>
          <p:cNvGrpSpPr/>
          <p:nvPr/>
        </p:nvGrpSpPr>
        <p:grpSpPr>
          <a:xfrm>
            <a:off x="541800" y="4221000"/>
            <a:ext cx="7808040" cy="479520"/>
            <a:chOff x="541800" y="4221000"/>
            <a:chExt cx="7808040" cy="479520"/>
          </a:xfrm>
        </p:grpSpPr>
        <p:sp>
          <p:nvSpPr>
            <p:cNvPr id="193" name="Rectangle 21"/>
            <p:cNvSpPr/>
            <p:nvPr/>
          </p:nvSpPr>
          <p:spPr>
            <a:xfrm>
              <a:off x="990360" y="4268880"/>
              <a:ext cx="735948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94" name="Group 22"/>
            <p:cNvGrpSpPr/>
            <p:nvPr/>
          </p:nvGrpSpPr>
          <p:grpSpPr>
            <a:xfrm>
              <a:off x="541800" y="4221000"/>
              <a:ext cx="4921920" cy="459720"/>
              <a:chOff x="541800" y="4221000"/>
              <a:chExt cx="4921920" cy="459720"/>
            </a:xfrm>
          </p:grpSpPr>
          <p:sp>
            <p:nvSpPr>
              <p:cNvPr id="195" name="Text Box 23"/>
              <p:cNvSpPr/>
              <p:nvPr/>
            </p:nvSpPr>
            <p:spPr>
              <a:xfrm>
                <a:off x="1165320" y="4281480"/>
                <a:ext cx="429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baco  Battle     Car   Cold    Cod 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6" name="Text Box 24"/>
              <p:cNvSpPr/>
              <p:nvPr/>
            </p:nvSpPr>
            <p:spPr>
              <a:xfrm>
                <a:off x="541800" y="422100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97" name="Rettangolo 1"/>
          <p:cNvSpPr/>
          <p:nvPr/>
        </p:nvSpPr>
        <p:spPr>
          <a:xfrm>
            <a:off x="4215240" y="5219640"/>
            <a:ext cx="419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990033"/>
                </a:solidFill>
                <a:latin typeface="Lucida Sans"/>
              </a:rPr>
              <a:t>Spaces are introduced for simplicit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.</cp:lastModifiedBy>
  <cp:lastPrinted>2009-04-22T19:24:48Z</cp:lastPrinted>
  <dcterms:modified xsi:type="dcterms:W3CDTF">2017-11-06T16:41:46Z</dcterms:modified>
  <cp:revision>1225</cp:revision>
  <dc:subject/>
  <dc:title>Web Algorithmics</dc:title>
</cp:coreProperties>
</file>